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EE6A-FF5E-4DAE-937E-9A8C5D7609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7EA9-AA2E-4495-A08F-5BC8D29EFE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946C-C6EF-4199-A688-0567B9A35D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941D-5D14-4E43-8A68-BF76793B8F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0BEB-25A2-4A6B-B041-618F5845D4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6FE6-9BAD-4797-B427-F9CD6C239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18CF-95AA-4C7F-95C1-AC68D1CF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1AB3-EF70-4546-A7D7-0495DF2BB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0449-14CB-4151-8793-E4258D9B6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40AD-6BD3-4844-89FF-79E640DD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C36E-9128-4873-A227-FDFF0DBB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F7A0-54D3-4910-A267-6AA31992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7877-3F5E-43A2-9EF2-D0B5F38F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0C68-4579-478D-BB84-FF9E1619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FF05-8613-41E2-AD28-57F92243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4775-6400-4ADB-86B0-E2192D21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E8C6-F519-4DA6-9824-23EDFB57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FC87-C365-404F-A0A9-954F53C62E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8424720" cy="58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я и практик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уховно-нравственного воспитан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алия Владимировна Ерёмина, к.п.н.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старший преподаватель кафедры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социально-педагогического образования  СПб АППО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9 год</a:t>
            </a: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8028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ия развития воспитания в РФ на период до 2025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112500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ритетной задачей в сфере воспита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является развитие высоконравственной личности, разделяющей российски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ые духовные цен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ховное и нравственное воспита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традиционных ценностей осуществляется за сче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я у детей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равственных чувст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ести, долга, справедливости, милосердия и дружелюбия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формировани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ной в поведении нравственной пози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том числ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и к сознательному выбору доб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сопереживания и формирования позитивного отношения к людям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к лицам с ОВЗ и инвалида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я сотрудничеств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государством и обществом, общественными организациями и институтам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фере духовно-нравственного воспитания детей, в том числе традиционными религиозными общинам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основного и дополнительного образования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8080" y="1125000"/>
            <a:ext cx="84250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ым условием успешной реализация в основной школе предметной области «Основы духовно-нравственной культуры народов России» являетс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программ основного и дополнительного образования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о-урочная форма становится тесной для решения предметных задач области ОДНК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на ценностной основ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чной, внеурочной, внешкольной деятельности может обеспечить преемственность и взаимосвязь отдельных тем, содержащих вопросы духовно-нравственного воспита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1692360" y="-171360"/>
            <a:ext cx="1008072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предметной област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КНР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080" y="1125360"/>
            <a:ext cx="91155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ие занятий по предметной области ОДНКР во внеурочную деятельность в рамках реализации программы воспитания и социализации обучающих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ие тем, содержащих вопросы духовно-нравственного воспитания, в рабочие программы других предметных областей, в рабочие программы учебных предметов, курс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занятий по предметной области ОДНКР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ывающие национальные и этнокультурные особенности региона России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ные в часть учебного плана, формируемого участниками образовательных отношени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3548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профессионального стандарта педаго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23640" y="1212840"/>
            <a:ext cx="8507160" cy="53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оздавать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возрастные детско-взрослые общност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, их родителей и педагог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ить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ностный аспект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го знания и информации, обеспечивать его понимание и переживание обучающими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ать ситуации и события, развивающи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о-ценностную сферу ребенк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ультуру переживаний 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ностные ориента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условия для воспитания и социализации обучающихся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духовно-нравственног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нтеллектуального и физического развит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84872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учителей для работы по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ховно-нравственному развитию и воспитан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обучающих семина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культурно-исторического и духовного наслед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ие бесе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раб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усс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жное обозр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нолектор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0" y="112500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и современной антропологической педагогики и психологии, утверждающей смыслом воспитания – «становление человеческого в человеке» (В.П.Зинченко, Е.И.Исаев, В.И.Слободчиков, А.А.Остапенко). Ученые рассматривают период дошкольного и школьного детств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о-бытийную общность ребенка и значимых взрослы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ние ребенка как существа, состоящего из трех ипостасей –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х, Душа, Тел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но для русской традиционной культуры и для современной антропологической педагог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едагог сам не является носителем традиционных ценностей, воспроизведение этих ценностей в общении и деятельности со своими детьми или воспитанниками вряд ли будет возмож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ные данны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еминой Наталии Владимировны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т. 8-911-007-42-27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remnat@yandex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38036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и ее признак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26560" y="981000"/>
            <a:ext cx="80758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– это четко упорядоченная совокупность нескольких элементов, которые представляют собой единое целое. Основными признаками системы являютс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ОСТЬ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окупность элементов, которые совместимы и функционируют как единое цело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совокупность связей. Создание единого целого без четкой структуры невозможно, поэтому важным признаком системы является взаимосвязанность ее  элемен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ТИВНОСТЬ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нтегративных свойств, интегративных связей, взаимообогащение элементов сист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ЕРГ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усиливающийся эффект совместных действий, взаимодействия, сотрудниче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-316440"/>
            <a:ext cx="82440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ические Федеральные документы, определяющие практику духовно-нравственного воспитания на основе традиционных ценнос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1680" y="134136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 Президента Российской Федерации «О стратегии национальной безопасности Российской Федерации до 2020 года» от 31.12.2015 № 683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 Президента Российской Федерации «Основы государственной культурной политики» от 24.12.2014 № 808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ряжение Правительства Российской Федерации «Об утверждении основ государственной молодежной политики РФ на  период до 2025 года» от 29.11.2024 № 2403-р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ряжение Правительства Российской Федерации «Об утверждении Концепции государственной семейной политики РФ на период до 2025 года» от 25.08.2014 № 1618-р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ряжение правительства РФ «Об утверждении Стратегии развития воспитания в Российской Федерации на период до 2025 года» от 25.05.2016 № 996-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79200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ые ценности как основной концепт, задающий ориентиры государственной поли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08108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амбула Конституции Российской Федерации (принята всенародным голосование 12.12.199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ы, многонациональный народ Российской Федерации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енные общей судьбой на своей земл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тверждая права и свободы человека, гражданский мир и согласие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яя исторически сложившееся государственное един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сходя из общепризнанных принципов равноправия и самоопределения народов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я память предков, передавших нам любовь и уважение к Отечеству, веру в добро и справедлив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озрождая суверенную государственность России и утверждая незыблемость ее демократической основы, стремясь обеспечить благополучие и процветание России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я из ответственности за свою Родину перед нынешним и будущими поколения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знавая себя частью мирового сообщества, принимаем Конституцию Российской Федерации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50520" y="112320"/>
            <a:ext cx="7139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ностное воспитание как приоритетная задач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8000" y="1193400"/>
            <a:ext cx="90360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ховно-нравственное воспитание как целостная система в редких случаях реализуется на практик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ласти духовно-нравственного воспита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сех  уровнях образования не хватае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ости и интегратив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представленным выше документам, традиционные ценности определены в них как системообразующие.  Они должны стать стержневым содержанием, ценностно-смысловой «вертикалью», которая будет пронизывать все уровни системы образова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этом случае возможен синергетический эффект возрастания деятельности в результате соединения, интеграции и слияния отдельных элементов в единую систем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7708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я духовно-нравственного развития и воспитания личности гражданина России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4000" y="1197000"/>
            <a:ext cx="8712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нцепции духовно-нравственного развития и воспитания личности гражданина России» определены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овые национальные ценност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иоритетные нравственные установки, существующие в культурных, семейных, социально-исторических, религиозных традициях многонационального народа Российской Федерации, передаваемые от поколения к поколен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Я. Данилю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М. Конда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А. Тиш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3534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цепции определен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5000"/>
              </a:lnSpc>
              <a:spcBef>
                <a:spcPts val="700"/>
              </a:spcBef>
              <a:spcAft>
                <a:spcPts val="1426"/>
              </a:spcAft>
              <a:buClr>
                <a:srgbClr val="7da6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цели и задачи духовно-нравственного развития и воспитания детей и молодеж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95000"/>
              </a:lnSpc>
              <a:spcBef>
                <a:spcPts val="700"/>
              </a:spcBef>
              <a:spcAft>
                <a:spcPts val="1426"/>
              </a:spcAft>
              <a:buClr>
                <a:srgbClr val="7da6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характер современного национального воспитательного идеал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95000"/>
              </a:lnSpc>
              <a:spcBef>
                <a:spcPts val="700"/>
              </a:spcBef>
              <a:spcAft>
                <a:spcPts val="1426"/>
              </a:spcAft>
              <a:buClr>
                <a:srgbClr val="7da6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исте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базовых национальных ценностей, на основе которых возможна духовно-нравственная консолидация многонационального народа Российской Федерац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95000"/>
              </a:lnSpc>
              <a:spcBef>
                <a:spcPts val="700"/>
              </a:spcBef>
              <a:spcAft>
                <a:spcPts val="1426"/>
              </a:spcAft>
              <a:buClr>
                <a:srgbClr val="7da6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сновные социально-педагогические условия и принципы духовно-нравственного развития и воспитания обучающих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770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ьный воспитательный идеа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5280" y="1341000"/>
            <a:ext cx="8291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ысоконравственный, творческий, компетентный гражданин России, принимающий судьбу Отечества как свою личную, осознающий ответственность за настоящее и будущее свое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раны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укоренённый в духовных и культурных традициях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ногонационального народа Российской Федер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99640" y="-28440"/>
            <a:ext cx="8425080" cy="3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базовых национальных ценно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иотизм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вь к России, своему народу, к малой Родин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солидарность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а личная и национальная, справедливость, милосердие, честь, достоин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ственность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ение Отечеству, правовое государ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вь и верность, уважение к родителям, забота о старших и младших, забота о продолжении р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 и творчество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ение к труду, творчество, созид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ность знания, стремление к ист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ые российские религии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я о вере, духовности, ценности религиозного мировоззре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о и литература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ота, гармония, духовный мир человека, нравственный выбор, смысл жиз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а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олюция, родная земля, планета Зем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чество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 во всем мире, многообразие культур и народ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7T11:21:22Z</dcterms:created>
  <dc:creator>Татьяна</dc:creator>
  <dc:description/>
  <dc:language>en-US</dc:language>
  <cp:lastModifiedBy>Наталия Еремина</cp:lastModifiedBy>
  <dcterms:modified xsi:type="dcterms:W3CDTF">2019-10-31T21:14:48Z</dcterms:modified>
  <cp:revision>521</cp:revision>
  <dc:subject/>
  <dc:title>Слайд 1</dc:title>
</cp:coreProperties>
</file>